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EBBF-CCBE-45AB-B495-0194A6D1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B2DF-F8E6-40CC-B148-CCEAAED0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5443-B0A7-438F-9A2A-7B9254CA8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3050-72AA-4151-9CEB-B69A06CE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7A9A-6AAB-482B-A46A-A638800D4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1360-00BE-4ECE-B9B0-4341773B1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B500-B2BA-4B7C-B051-16D2C2CBE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4A87-93E8-44AC-B62E-F67EE2ED3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2A7B-3233-443B-BBED-0341D03F5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EA86-0C8E-411D-92EA-DAA8AEB55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A4FE-9EE8-43FB-8B88-95E225FD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DFC4-065E-494E-837F-A98731182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 participants so there are secondary people at each table mixed with the element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FC4B-C60A-4BF2-A4E1-FE787849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98DF-A0A8-453A-A639-858AEF58E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09B1-8D36-46EC-B675-97B9C1BE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3DFE-B462-4CBE-877F-BA4E36DEB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is might be tough for some participants. Remind them what the quadratic formul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9869-09C0-4493-884D-06A8A549F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52F1-9155-478A-A67F-7F34016D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16E-73DA-4224-BAD0-CD067EB16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E448-8497-4FBF-AF76-4D5030AEE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694B-7AC6-45CA-988E-75B6E8C4F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051-FF0B-42F6-9A8C-2CA400AD0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68FB-4D4F-4845-9311-6AFFC3C23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336A-2436-4DB8-BD7B-F98FFCF2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at your parallel task here assume at least grade 9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BEEF-DB7F-4DED-9175-0D87CAEDC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CADD-8DAB-4F68-950D-44B6F998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659F-7017-498D-A0B7-E7AAEE9A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C040-AE6A-415A-90E4-4B4202737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17AC-EA8C-43B8-B579-7FB8CFF0A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 Plenary 4 TIPS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52CD-2D8D-42F0-9147-13DC6A5BB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D5B0-CE63-4875-99D3-3646D2E4A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D697-4219-48F6-9C22-44A35AC3C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5C81-7B1A-4911-8BFE-59506926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BAB1-D4A1-4312-ADD0-8C94698AC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5B63-8D32-4120-8A05-1A32633B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A4CB-45AF-4BEF-8C1A-3DE5C2144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1A3-FC76-4CB1-84C0-90363A61E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4341-8031-45D0-BADA-DE0113896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CDBD-AA40-48EC-8439-30AA6CE75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2DEF-5E66-435B-BCF6-AC901E7F8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250A-7444-42A6-A087-ED4E79CF7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8426-43C0-4816-9233-3B4EB4D3E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7E63-AD4D-4E71-9CD2-3E2EA89AC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6E0D-201C-4963-A028-DE30637CC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F0D6-7FB0-4763-B0B3-D021693F7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F1D8-5186-4C3A-964F-971AF5AB3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B68-F19C-42AB-909A-43F82905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434-8B48-4973-BE6F-FB0F8979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ADD-ADFE-4A44-AC37-5F8E8DC3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FA0-1C8C-4B68-BBA5-88FA8140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153D-5E00-4EBD-9514-D4C6F2C7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1E90-2B89-4427-82B0-BE7FB35E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8D88-DD2E-49D0-8B78-FF27EC94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65E-CE06-41C7-AE90-7CBAF7F5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741C-46AE-4B58-A398-3E4F8897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4FF2-D6DD-46D3-ADE2-AA3B754A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793D-77A0-4C7E-9251-520E8CAB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219-8CD2-46C6-90D5-28D6A94D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92E5-AC29-4963-A88D-A2F8694F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DDFD-D3A4-446F-88E6-57126BE2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DA28-3186-44ED-9061-22FAFBBC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2BB1-BCE9-425B-B50D-00E2F724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AB92-09A0-42E6-9A8D-4988464E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F19-48CF-425B-8F17-7A89F4BF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BEE-FCE4-4036-A512-0BE714B2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280-566B-4826-B7A0-4BB6180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050-CDAA-47AD-BAF7-9B78E45B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291-8DE6-4EB5-A66A-B8774D35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CAD-68A3-4BAC-8408-40200C3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860-4892-4A2C-ACD2-4E7FEC93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0164-2E68-498C-ABE6-D73BA380D4A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9B30-28FF-4520-99D8-B1E76A40459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5FB5-9F98-4EDC-AF42-65396A395A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raw a graph of your choice. Write its equ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bel the x- and y-axes and turn the graph to put it in standard position. Write the new equation. 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16ED-AA2F-4178-B0DF-E54145278E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205740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 equations alike?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FBD4-B085-4AF2-B18E-6BCB12C9F4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D1C0-C5B6-405B-84AF-D390905725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-on open question might be: Create two linear growing patterns that are quite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A784-FFEA-4029-AE96-7A6369683E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664F-6070-4D33-89E6-BB72E2A476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ight such a question be effective in diagnosing student differ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see it more as exposing or evoking thin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47FB-4B6E-44FE-A63E-DC781DE4D3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2057400"/>
            <a:ext cx="73152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udents choose one integer and one decimal value for the missing amounts. Then they draw a picture or pictures that would help someone understand how to solve their equation:    3x – [] = 4 + []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F8D9-C6F6-4C78-A663-9532762C29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2057400"/>
            <a:ext cx="7315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a “role” as either a struggler or gifted studen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the required picture(s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[] = 4 + []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ry i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5888-460B-4A4A-9736-C1DCD66EE82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205740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are your picture with two people at another t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5286-0E2A-4FB4-9822-DB7E25C65F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057400"/>
            <a:ext cx="7315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hoose on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C930-256A-47F6-85E4-6358025B34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205740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trategy do you think  I used to make this question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it a strategy that could be used in other situ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7A23-C153-4FE0-A0A4-AF690C1218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205740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16A5-151D-41EC-A443-71D5D8CBB7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the quadratic formula for solving quadratic eq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5398-3BA3-46A8-A827-C0C299612C0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sides the solutions to a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bx + c = 0, what else does the quadratic formula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Picture 1.png"/>
          <p:cNvPicPr/>
          <p:nvPr/>
        </p:nvPicPr>
        <p:blipFill>
          <a:blip r:embed="rId1"/>
          <a:stretch/>
        </p:blipFill>
        <p:spPr>
          <a:xfrm>
            <a:off x="4038480" y="4038480"/>
            <a:ext cx="3314880" cy="11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1C33-C5C5-43A6-840F-6A6BB71A6C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is solving a quadratic equation like solving a linear one? How is it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D87B-2B41-4234-8926-2549B5484D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how to solve linear equa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AD0F-D0CB-4EFA-9383-734CEDD76F0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solving this equation, how do you know that the solution has to be posi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4x + 7 = -5x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0681-F1C0-435B-9575-D6A34AB82F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olution is negative. What are some things you know have to be true about or can’t be true about the missing va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4x + 7 = [] x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 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D064-EA88-4999-8D3C-136D21F166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2057400"/>
            <a:ext cx="73152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 solutions to these two equations alike and differ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 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9C48-1053-4350-9913-A2A4F3F57C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6CB6-7BB3-4853-9B12-8F4A5818C9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838080"/>
            <a:ext cx="419076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 – 8. She said there was no more work to do to draw a graph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648320" y="838080"/>
            <a:ext cx="419076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8. She said there was no more work to do to draw a graph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352680" y="4648320"/>
          <a:ext cx="5335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648320"/>
                    <a:ext cx="533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696080" y="4572000"/>
          <a:ext cx="6732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572000"/>
                    <a:ext cx="673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17DE-37A7-4D00-A3E7-3CAA95D20C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BCC8-276A-4D7C-A000-01328F4007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3206-9E28-4C6C-93DD-13120AC81D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[ ] and [] and graph []x + []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D367-C9FA-4E6F-A1B7-4764EBD4917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B9B3-23F8-4608-B93F-560555073D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start with an existing TIPS lesson and try to open up each part of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prac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B1E3-B266-48E1-95CC-F78A9D9F620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Picture 2.png"/>
          <p:cNvPicPr/>
          <p:nvPr/>
        </p:nvPicPr>
        <p:blipFill>
          <a:blip r:embed="rId1"/>
          <a:stretch/>
        </p:blipFill>
        <p:spPr>
          <a:xfrm>
            <a:off x="0" y="1820880"/>
            <a:ext cx="9144000" cy="321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EEA3-079D-4284-BA9C-948F7D592E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Picture 3.pn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2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4580-2B3D-4D29-9797-44431F49CD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Picture 6.png"/>
          <p:cNvPicPr/>
          <p:nvPr/>
        </p:nvPicPr>
        <p:blipFill>
          <a:blip r:embed="rId1"/>
          <a:stretch/>
        </p:blipFill>
        <p:spPr>
          <a:xfrm>
            <a:off x="0" y="92232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3F65-A7DD-48F4-80A2-B76C700210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Picture 7.png"/>
          <p:cNvPicPr/>
          <p:nvPr/>
        </p:nvPicPr>
        <p:blipFill>
          <a:blip r:embed="rId1"/>
          <a:stretch/>
        </p:blipFill>
        <p:spPr>
          <a:xfrm>
            <a:off x="0" y="0"/>
            <a:ext cx="8955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3EFC-BDAE-4DD3-BFD0-363729E646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Picture 8.png"/>
          <p:cNvPicPr/>
          <p:nvPr/>
        </p:nvPicPr>
        <p:blipFill>
          <a:blip r:embed="rId1"/>
          <a:stretch/>
        </p:blipFill>
        <p:spPr>
          <a:xfrm>
            <a:off x="380880" y="1447920"/>
            <a:ext cx="9144000" cy="480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A93B-B174-4C0C-8715-CB4D2AAB286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243828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ould the original graph look like? 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ould the second graph look like? 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FB0-BF9F-4893-92C8-398FB22C77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Picture 9.pn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10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315B-29E6-4EDA-9974-C3789DD056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Picture 4.png"/>
          <p:cNvPicPr/>
          <p:nvPr/>
        </p:nvPicPr>
        <p:blipFill>
          <a:blip r:embed="rId1"/>
          <a:stretch/>
        </p:blipFill>
        <p:spPr>
          <a:xfrm>
            <a:off x="0" y="2403360"/>
            <a:ext cx="9144000" cy="20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90DB-B1F8-45AF-A45E-AAD3B02C02D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Picture 10.png"/>
          <p:cNvPicPr/>
          <p:nvPr/>
        </p:nvPicPr>
        <p:blipFill>
          <a:blip r:embed="rId1"/>
          <a:stretch/>
        </p:blipFill>
        <p:spPr>
          <a:xfrm>
            <a:off x="0" y="735120"/>
            <a:ext cx="9144000" cy="538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EFB9-F6DC-40A5-B464-845C227FFF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43000" y="2438280"/>
            <a:ext cx="7315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 you 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a partner, find a lesson where you can open up the minds-on, then another to open up the action, and another to open up the consolida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own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CF5-8C90-4999-8B5B-8F4F7A3960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43000" y="2438280"/>
            <a:ext cx="7315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ract with colleagues at a different ta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as their approach to opening up their lesson similar to yo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as it diffe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har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E103-82BB-4C57-82C0-E02638604AE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DB9-B236-4C45-B855-9C154957E7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243828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think Jennifer meant when she said there was no more work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think she was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6375-1582-44FC-89FD-F98D531F5A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143000" y="243828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big idea was implicit in both of the parallel tas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8731-D6EB-45D8-963D-237E349F634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24382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what class profile or in what situation might you use these parallel tas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2586-8C95-49A8-9B67-2DBCDD6AF39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905120"/>
            <a:ext cx="73152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 a partner, reframe the two parallel tasks into a single open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ce you do, decide if you think the parallel tasks or the open question might be better to use and wh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75F5-4960-45B2-9EA7-C4E974646D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times when you look at a graph, you see more than one relationship at the same time. Can you think of an example of this?  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possibilities you might have consider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20:15:30Z</dcterms:created>
  <dc:creator>PSteele</dc:creator>
  <dc:description/>
  <dc:language>en-US</dc:language>
  <cp:lastModifiedBy>Marian Small</cp:lastModifiedBy>
  <dcterms:modified xsi:type="dcterms:W3CDTF">2009-07-31T20:33:13Z</dcterms:modified>
  <cp:revision>284</cp:revision>
  <dc:subject/>
  <dc:title>Slide 1</dc:title>
</cp:coreProperties>
</file>